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FA1-35AA-4D47-9C53-01B0DE1A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964-B170-4FA6-8381-BCF73C85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1A0F9-F073-4791-A7D5-5A1E59BA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9D2BA-3520-4FBA-A71A-B911F91D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B7D76-D6E8-4872-8DA9-C7227E4D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BB0F0-79AF-4017-9C15-1A92680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0BDC8-DA41-49DA-AA32-3C981852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F79A6-A777-4355-B003-F3AE22F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0BFD7-E8ED-40EE-8DC5-70219C26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35B02-E91A-4BF6-874A-6720C5D0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6171D-EE3D-4266-9620-08F69C01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F895A-1611-47C9-BCFA-6940E987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249-5803-4D50-B7C4-403113C8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9B30D-2F39-4D0B-978F-5ABA5E46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620A6-E6CA-442D-AF50-2DEF9C3F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6C8DE-3665-406E-8179-C5821A81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9896D-6B32-4530-88B1-7E14DDDE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8C231-D605-49B2-B1E5-C4DD799F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EE0A6-3C9D-49DA-8F48-8323509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13F49-ED27-4DDD-8177-E2A6EEC6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9BC0E-E4BE-4874-BF32-FDA1BE63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2F2FC-86B9-4FAD-A32A-0144834C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7D9B6-CEF4-4378-A846-0CCCC039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032-D34F-4934-9D04-AA6CA754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475B7-F7B1-4C31-BACA-AF24D227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2FA07-DB9A-4E62-9F11-E80FDECE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CA88B-5361-45A5-BFF7-1B67DFF8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139D5-E461-486C-8109-7CF42B0C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76D56-AF24-4210-9F46-68CC4448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F8089-1C60-45FD-A088-455E236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F2692-7BE7-4F1E-968D-21ED0DE9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0D37C-EDCB-4E83-B783-ED6B8E8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CF088-1765-4304-9126-A972132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1A7AF-FC9B-495F-B81A-C0283C6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2539-F0A8-442A-98FE-847D6F34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45264-DC6B-4F2F-BBF2-BFE5E43F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09FA7-58F1-447F-99D3-F9F13D1B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5439C-16B4-4F5F-85DB-1191735D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94F10-2F95-49E1-9563-A65BA87D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76D17-76A0-4A8B-80EB-21EBE13D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06F0D-521F-473D-B1DB-39CE072A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4BA07-3D72-400D-8BA4-46227162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3284A-65B0-419D-B674-84346CFE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54E8E-5647-4EF2-8C65-64CCB4F5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6A3F6-C375-452E-8B4B-2CA6DE6C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7789-565A-41A5-8845-619042AA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586D9-6793-483F-80AA-D6452016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E6D02-0EDF-4ED0-AD39-767B387B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854F5-25E7-4804-BEEB-BCC9356B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A5C2B-07CC-41B6-81F9-461523ED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EF645-FF4F-425C-BBA6-CCD42B8B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822E1-5222-47D1-BCA2-89D67AC2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97CF4-AF7D-4B9C-B946-045B1DDE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0067B-E979-4A2D-9E76-71BF3F45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32B62-CAFC-4F5A-85E4-D3506917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A3C29-2845-4D14-B25F-6660354B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B4B4-312B-4E88-92E9-B1FE4CF7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9D649-F48E-42FD-8B17-AD973CD7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2398D-034C-4C28-AAC7-CADF93EF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4ABAF-C642-4643-8B55-EDE0725A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338B6-106F-46AF-9FCC-C6FF09C2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5F101-342B-4C8C-BE1E-560BB35D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192FD-B26B-4551-86C1-217C4593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4ACE1-3C37-4A0A-9670-1D2D2867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5C66A-8362-4B57-8F80-CC5027E3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25F2D-FB2F-47E2-8B7B-C17FDBF9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1072D-F941-47D8-B069-EBCBBBF8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9210-EA32-4E0B-8B00-4702DB4C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81DF0-06BA-44DC-8698-6E7D5422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D6DA4-497F-4E42-BA39-35CA8A3F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5812F-8B34-4330-A4A9-DB6E90FE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78656-2BB4-49EC-82F6-8DC18D3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DA7FF-BB74-46CF-A806-05FF6FB6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C85A4-CF73-4FE6-94CE-253129D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0653D-40CD-4DA2-AA09-4246A9C7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5040E-CFBA-42C6-8112-1795B3AF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C0E22-5428-4912-9BDD-C79B7C28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44030-7E77-431C-B046-5040C70E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8CA9-B9C2-4C31-A6C2-9B78B5BD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A299C-8F96-4DFD-882C-568881D9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C0DC5-467B-45D8-9D85-0AE8AE50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57165-E2ED-4AC7-9E9A-53522D6C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F213A-0DAC-434C-BBFB-7E6782F0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A3489-BB2C-4145-BBC1-54272172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BF79C-6335-4A78-9B9A-FE6C9453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E9397-CD02-4467-B283-249F69D3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0988F-118D-42CA-91EF-B41514D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2F8AE-B0F9-4495-B45B-50DB5AA9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40AEA-D06F-4911-924A-0283F331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405B-FA93-48BE-B793-99F8DA7B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8D809-5D1D-40B1-9228-AE69C545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67C17-78F4-44BE-8E03-ACE8742D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10C633-F0E2-4AAA-9389-B213A05F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824390-75D1-4875-9057-53FD02E6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1CABE8-C34F-452F-92F7-982AA26E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D22A6-277C-4732-AD5C-7C29DC66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385AC-28C1-403E-AB9C-D7E35E4A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8D399-5655-43CE-87A7-639E0C3F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ADAAE-31A7-4B5E-A936-814CB2B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33EDE-9EF9-4B52-9C2C-BCE6B82C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AF75-9724-4C93-8055-4BF5908C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B7DE6-CB98-4F38-9AFB-8128DAEB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88B4A-48F8-4BD1-8D10-B2CE2BCB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6CDBF-5392-488C-929D-B192CFD7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269B2C-C589-430E-B023-03F04002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4E57E9-D32F-4EB6-A9EA-0C963304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47B67-4558-4464-B085-20001F7A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722538-F2B2-4771-9DB6-70C292B9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DBC246-19EE-45BE-BC52-F525AC0F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4A63E-4FF9-4D2A-82EE-048D5FF0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FB76E-19EB-422B-BA22-2E95E3AD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150-2EB6-4473-A97A-1CBC51F5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F0EE-427E-43A1-9B4D-0B5CBAE2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57E15-628A-4B6F-8F34-065FAC7C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69834-2C7D-4C94-B3CF-B34F0CD5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D7B01-29D5-4D2E-A56D-B0D88D84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7A8F6-8458-41BD-8230-0CE9F664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DF960-A7C4-4008-8BD4-067CBEE5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DA9058-4EBD-40E1-8E58-E1219652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02F518-3327-401F-874F-F16F84E6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5E41D4-AF5E-493F-A79D-CD5E0211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E3FA0-6571-43CC-B58C-7E826BAC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A257D-AE0C-4BE4-A2E5-CE712766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2902-A756-4106-BB23-CD89048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A97694-7670-4D5F-BE91-FA4EA0B0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68671-6359-40DE-9478-52C9B9C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168B4-6694-4D48-9D44-E2FBE4D8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6BFC69-3B9F-48C2-8FCC-E8B873A4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43DECE-2B8E-4181-82B3-D4DB51F7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B823C0-A3C2-47C7-9B84-86A18A48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F4EF5-CAA8-4F06-A114-C3207E0D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329B4-B0AC-4FD9-9444-BB132AF6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5DD7A-9379-481E-BFA7-C1044BE1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7D5E4-9853-4530-BE93-5577AB01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307C-2AA3-44FB-BEBB-A356D5E3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D0157-AEBD-45ED-85A9-E81304A7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669FD-C606-4586-91EB-EB8355EC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3EC10-C3C8-474E-ADD8-954F84A7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28BB21-243B-4705-91E3-732B431C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C09E6D-B393-48DD-A0D2-7FBAAAE1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11708-4B53-4353-B261-3313E6F5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FD0398-B997-465E-A618-5B32C513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D97832-2670-4AAC-8869-B62905F9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DD047A-41C8-4692-9D02-97BE697A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F4C2B9-EB96-403F-8518-181E9362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D036-B51B-453B-BC87-7FB67ABC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FC1C8-1443-4E85-A958-1F53EF85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A50DF-F95C-4ED6-90E2-31DDFE44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EA06D4-ACD4-43CC-ACAF-7EEA1298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35B539-2E13-46C0-BF45-3BCB1AAD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941A7-E764-48D5-8773-65E830D8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E5AFBB-347F-4BED-86B0-DBA2AD0D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BA4600-0D48-460E-B0D0-D3AED6C6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561D3-8959-49B4-ACE5-4C51EE62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4ABF8-8113-463D-9EBB-61F6502A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29C93F-7B42-4F04-90B3-86EAA2E1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9808-CB92-4EDF-BF0E-A46E6588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EBA73-3E61-494C-B9A0-06DBD587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3929F-E68F-4DC8-80EB-D59297AC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04A507-E3A5-46D1-859D-6FD88082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B9A17E-0A88-48DB-AC4D-E07DBA06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0A0D8B-FD61-4E8B-A51F-EE79B8A6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B7BB15-D8DE-4447-889E-C96C5A50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FEF1AB-0D95-45FE-9F05-29762CE5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E57454-36E2-4933-AEEA-BF0B555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C66ADB-921B-4C23-9664-39042979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AC04EA-A1DC-4050-942D-76235D4A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4271-E001-4B6E-8477-3896A83D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F2142-B103-48E4-9EEB-60DE5E3D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6D8107-DCDB-453A-A802-88F3FDB2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8F04A1-DB5C-4DDA-A5E9-EEFAA57C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EB7B-0145-42EB-8316-8DEA4BCC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06D7-7D30-4647-A2E9-D21E325F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D0527-2A18-4664-B7AC-9D81A45B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3B31-E08D-435B-A9DE-BE4C59AC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97F-D182-4DCD-9FC0-861EA4DC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01F7-F1AF-4A34-954D-F18EE2EF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772B-BCF3-4A85-A0E4-472DB30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411C-CDFC-448B-B8EA-EF002DA2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3626-D008-4B09-AAF9-2F7191EB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DA732-F8D7-48DE-8469-DAE3680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234E4-7D7D-4B85-ABD0-3ED93BA2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BE63E-67A7-4967-8DFB-0660041E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7C31B-9617-404E-B894-B68BD82E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8A0D-096E-485A-8729-FEF6B6A8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CBF61-A804-4364-A1E9-1582598F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4DE-C58D-4809-B18D-890B2182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F417-1EC7-43B7-97F8-52F8FF91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22049-AA4C-4216-BBEA-4117DE45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D7FA7-4075-4740-9B8C-0ABD2F6E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7371E-A75E-4184-A23D-39722311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4D79D-CD00-421F-A9F4-E1FAF36E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5BBF-A8F4-478F-AC5A-EFFDDB10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A22E-A626-40EF-B02D-129F5A33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1B036-8817-42DE-B879-9D373222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AD5D-7ACA-40CE-BB81-F2B65D4C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B0DBD-1A4C-4F43-B589-C4CB4D08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A33-2C1D-447F-8A46-60DF75A8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24356-B4E1-4B17-87C2-20B1C7FD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4FD3-E2E5-4E40-BD3D-C09D7DDB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8C455-94F1-4C9B-B0C6-E64D041F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DF719-685E-4DBE-B5F1-DAA990E3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02C11-1E4E-4120-AB90-A40391EF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DCC9B-1A52-4CE1-80A1-4BDD1E9C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732C7-793E-466A-B6D2-813E3E11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4FAA0-E6F6-47BF-A0DE-BAA906A3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7A8CE-A191-47D0-B602-83D0293D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BEBCF-7D7B-4E8D-BE40-7B6F3846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CB9-1B30-40DA-BF79-36CCF67F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FA885-BE77-4272-A5F9-609CEAE9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2972-7443-49C9-9B82-1DE6D088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7C709-84B5-4C4C-8ABB-FC52CAD1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ECBA-CABA-4529-8656-2001796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4B76C-F172-4C37-994C-3B7AD99F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ACF78-DB40-4729-A0EE-7CE8ACE2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48C2F-C7AC-4216-B483-1D8544B3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B0D2-963F-4FB3-8AAF-B145D842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04D9D-8E03-4CF0-A312-ECD9D34B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657A-360A-4646-9E3D-4F3F16D0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90F-0AC5-4A97-A1A8-6D8B6E90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5EDF0-6DFF-4FC2-B635-4D95B0C6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55D5F-279B-4822-AF68-293F94C7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8F5D4-2EA3-48AE-A377-F4D7421D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4C29E-EDCA-4433-B7B8-8DBDA025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78609-9C6B-4B51-BA09-CB5E910D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F3AA7-5D69-468B-8111-4E19B395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9AB00-C5AB-49BB-9204-0F1CB283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382E6-5F0B-421C-8F87-FA16034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41718-9E34-4FA0-88AC-941B4570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D2F3D-D849-4A32-AFBB-D5DE7312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EC6-88C1-4372-9647-FDB88029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FA3D9-1AEC-45FE-A7DF-A009BD52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1A6F9-25DA-4C1A-BC90-762859FF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74AFA-3DC7-4C04-A53F-2967F088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FE45C-89D6-4DA5-B60E-EEEC98FD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D42FA-0858-43AD-A113-84E7D7D7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0172D-60CE-4FFA-9367-853864B5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2219E-3847-4C61-9817-B7981775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D07C2-07D3-41D0-9926-9EFACAA6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42A36-342E-4B7A-9E0C-6AA26571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5905D-BEBB-4344-B896-EB7F14F2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F1C-2A99-4059-8724-FE31C99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4AD33-CE0B-4791-A59F-5C9D370F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9CC84-A094-4B1A-8F8C-A25F8A62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E6EA5-376B-430A-A382-23220E7D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45DB9-5B62-49F6-B49D-E7EA6312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73D40-5144-4330-8C4F-94485211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BD3A9-175B-4BA1-A2CB-57D7E930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84BC9-0A72-43C7-ABAB-96621729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C29F1-7C20-42E1-B00C-3DFC976A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8F780-91A5-4728-BC0D-4E450C88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D7AA4-B350-4709-B1A4-0168EB14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0445-A373-4583-97A9-8DC500B7C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9624-4CDA-49F6-A39F-9D9A5F5507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D04E-AEA4-4A79-BF54-7E1D42D8BF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290A-9D74-4F34-A6E6-D047E0AE62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96D1-CE89-45C0-879E-F16FA96555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6224-8270-4E0B-8D9E-D6685E90BD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C1C6-12FF-4C3E-915B-A1E2428E96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0573-DA76-4E79-8D73-0935766E69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627B-47CE-463E-A355-FDA413892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1EEA-F707-476E-99CD-541F70A65F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3E39-7C68-41D7-8A4E-5810B3F2C7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FAF9-865C-4482-A6BC-EBF3C08B8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B5C9-77B6-4BAF-BF06-CD95FF1617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D03E-A2DC-4A1B-AAD9-60D3B3C21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F24E-848C-40D1-A18A-9FF23D17FE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C555-522F-488C-A70E-D2EDFF5B11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E841-3A9C-400E-A2B1-07E52EE8B4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47C0-FEDC-4305-A7FE-6E0A790F38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3B99-1504-47F9-BC0D-B06E57D6B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4A64-05C5-4DDD-8887-0F8D28BE4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E3FE-E3F4-4824-A2E9-4B8C323F3B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190B-EDA6-497D-AF16-8C2213ADFC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4B9C-CB0F-4833-9328-BC0F43219A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54AD-72C3-45F2-AAA6-059BA5FB5D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0556-B288-4DA5-BF85-4A1FCCBAD7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188E-B829-4C06-8256-41493A83A0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6D20-CE80-45B3-92E7-45014D1208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2945-447D-4416-8137-BF985642F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8E19-31A9-4980-8D95-66978B8FC1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AE75-AA37-429B-B5CA-64799A7AD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F834-8946-4C85-9504-3ACF93EAC0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3AB4-F5D7-4B6F-951A-68CE10931D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1AD1-D0F9-4CE1-A9CA-D0C7453828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5F95-9422-4480-BC75-1945D292D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478F-1C1B-48B7-A1E3-028B5F130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2B91-AD38-4AAC-9D32-664B2E34F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3D47-CFC1-48F0-A307-33E5631EA5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E318-CBBD-45D6-A632-EA105AFBF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C2F8-F67A-4F6D-BA06-6DC7A6E117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E215-CBC6-41C1-9677-483E2DA232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514600" y="3114720"/>
            <a:ext cx="41148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48680" cy="562932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2786040" y="1285920"/>
            <a:ext cx="114300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2928960" y="2286000"/>
            <a:ext cx="114300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2857680" y="3286080"/>
            <a:ext cx="214308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4429080" y="4286160"/>
            <a:ext cx="157176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>
            <a:off x="2374920" y="5846760"/>
            <a:ext cx="14288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71600" y="828720"/>
            <a:ext cx="8200800" cy="52005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3"/>
          <p:cNvSpPr/>
          <p:nvPr/>
        </p:nvSpPr>
        <p:spPr>
          <a:xfrm>
            <a:off x="2971800" y="3068640"/>
            <a:ext cx="13143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4"/>
          <p:cNvSpPr/>
          <p:nvPr/>
        </p:nvSpPr>
        <p:spPr>
          <a:xfrm>
            <a:off x="3071880" y="3568680"/>
            <a:ext cx="131436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5"/>
          <p:cNvSpPr/>
          <p:nvPr/>
        </p:nvSpPr>
        <p:spPr>
          <a:xfrm>
            <a:off x="3594240" y="4057560"/>
            <a:ext cx="100008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"/>
          <p:cNvSpPr/>
          <p:nvPr/>
        </p:nvSpPr>
        <p:spPr>
          <a:xfrm>
            <a:off x="3357720" y="4500720"/>
            <a:ext cx="1571400" cy="37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7"/>
          <p:cNvSpPr/>
          <p:nvPr/>
        </p:nvSpPr>
        <p:spPr>
          <a:xfrm>
            <a:off x="7500960" y="4535640"/>
            <a:ext cx="1081080" cy="301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"/>
          <p:cNvSpPr/>
          <p:nvPr/>
        </p:nvSpPr>
        <p:spPr>
          <a:xfrm>
            <a:off x="892080" y="5022720"/>
            <a:ext cx="108108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9"/>
          <p:cNvSpPr/>
          <p:nvPr/>
        </p:nvSpPr>
        <p:spPr>
          <a:xfrm>
            <a:off x="5000760" y="5072040"/>
            <a:ext cx="10810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10"/>
          <p:cNvSpPr/>
          <p:nvPr/>
        </p:nvSpPr>
        <p:spPr>
          <a:xfrm>
            <a:off x="3571920" y="5572080"/>
            <a:ext cx="135720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457200" y="1671480"/>
            <a:ext cx="822960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433440" y="961920"/>
            <a:ext cx="82771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20240" cy="5514840"/>
          </a:xfrm>
          <a:prstGeom prst="rect">
            <a:avLst/>
          </a:prstGeom>
          <a:ln w="0">
            <a:noFill/>
          </a:ln>
        </p:spPr>
      </p:pic>
      <p:sp>
        <p:nvSpPr>
          <p:cNvPr id="1035" name="矩形 4"/>
          <p:cNvSpPr/>
          <p:nvPr/>
        </p:nvSpPr>
        <p:spPr>
          <a:xfrm>
            <a:off x="1000080" y="2428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1000080" y="44290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286480" cy="32479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2"/>
          <a:stretch/>
        </p:blipFill>
        <p:spPr>
          <a:xfrm>
            <a:off x="1214280" y="4143240"/>
            <a:ext cx="6858000" cy="1409760"/>
          </a:xfrm>
          <a:prstGeom prst="rect">
            <a:avLst/>
          </a:prstGeom>
          <a:ln w="0">
            <a:noFill/>
          </a:ln>
        </p:spPr>
      </p:pic>
      <p:sp>
        <p:nvSpPr>
          <p:cNvPr id="1039" name="矩形 3"/>
          <p:cNvSpPr/>
          <p:nvPr/>
        </p:nvSpPr>
        <p:spPr>
          <a:xfrm>
            <a:off x="1000080" y="11430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928800" y="31431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547560" y="928800"/>
            <a:ext cx="8048880" cy="500040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857160" y="10000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928800" y="250020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"/>
          <p:cNvSpPr/>
          <p:nvPr/>
        </p:nvSpPr>
        <p:spPr>
          <a:xfrm>
            <a:off x="857160" y="44290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504720" y="690480"/>
            <a:ext cx="8134560" cy="547704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857160" y="7858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928800" y="22860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"/>
          <p:cNvSpPr/>
          <p:nvPr/>
        </p:nvSpPr>
        <p:spPr>
          <a:xfrm>
            <a:off x="857160" y="42861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485640" y="1190520"/>
            <a:ext cx="8172720" cy="447696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4011480" y="1771560"/>
            <a:ext cx="128592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3571920" y="2714760"/>
            <a:ext cx="1285920" cy="377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2565360" y="3740040"/>
            <a:ext cx="114300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5"/>
          <p:cNvSpPr/>
          <p:nvPr/>
        </p:nvSpPr>
        <p:spPr>
          <a:xfrm>
            <a:off x="2014560" y="4260960"/>
            <a:ext cx="1143000" cy="39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6"/>
          <p:cNvSpPr/>
          <p:nvPr/>
        </p:nvSpPr>
        <p:spPr>
          <a:xfrm>
            <a:off x="4618080" y="4746600"/>
            <a:ext cx="1311120" cy="390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7:4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